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8BF6-3BDD-4E44-AB6D-1828DC6A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6389-E34A-456B-A45D-C972AA9E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961-AAFB-4B94-B10F-C0C08271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202-814C-43C7-A943-9C357822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930-ADE4-43D5-89F2-5C6B1C6A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FB9-669E-4815-AA10-9CA77BEC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42C-8E09-40FC-A06B-6461E7CB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771-BA13-4F25-8ADC-AAC3E0FC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A2B-2D89-4B06-8BAC-925121E6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1EE-FC42-4386-A31B-747D4868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5F52-A638-41FC-AE24-D42CEF8B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FEB3-4C0F-470C-B664-24FB63CF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5216-C4CC-48D0-B227-16BECAF17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file:///tmp/home/.config/libreoffice/4/user/gallery/MSSN00693A0000%5B1%5D.wav" TargetMode="External"/><Relationship Id="rId5" Type="http://schemas.microsoft.com/office/2007/relationships/media" Target="file:///tmp/home/.config/libreoffice/4/user/gallery/MSSN00693A0000%5B1%5D.wav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Lizzie Clou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1219320"/>
            <a:ext cx="59436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 Canal 21</a:t>
            </a:r>
            <a:endParaRPr b="0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Hoy en Bolivia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05520" y="3733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89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5562720" y="4114800"/>
            <a:ext cx="380880" cy="2286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685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72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666880" y="0"/>
            <a:ext cx="990720" cy="96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1752120" y="990720"/>
            <a:ext cx="762120" cy="759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1905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09520" y="2362320"/>
            <a:ext cx="228600" cy="3045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0" y="1828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2666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54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218960" y="2743200"/>
            <a:ext cx="152280" cy="5335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600200" y="19051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9880" y="5105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59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57600" y="4800240"/>
            <a:ext cx="380880" cy="3049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57200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co dia prono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3328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èrco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e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r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rampa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los trune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 txBox="1"/>
          <p:nvPr/>
        </p:nvSpPr>
        <p:spPr>
          <a:xfrm>
            <a:off x="2133720" y="5410080"/>
            <a:ext cx="495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cre, Bolivia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947520" cy="99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0" y="3657600"/>
            <a:ext cx="1093680" cy="1150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86200" y="3809880"/>
            <a:ext cx="1371600" cy="1254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502920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5486400" y="3657600"/>
            <a:ext cx="1093680" cy="1150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7162920" y="3733920"/>
            <a:ext cx="1093680" cy="1150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173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 Fin de Se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438280" y="1600200"/>
          <a:ext cx="3962520" cy="3862440"/>
        </p:xfrm>
        <a:graphic>
          <a:graphicData uri="http://schemas.openxmlformats.org/drawingml/2006/table">
            <a:tbl>
              <a:tblPr/>
              <a:tblGrid>
                <a:gridCol w="1905120"/>
                <a:gridCol w="205740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b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1093680" cy="1150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10940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bff7"/>
            </a:gs>
            <a:gs pos="100000">
              <a:srgbClr val="5e29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2438280"/>
            <a:ext cx="75438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DIOS!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519200" cy="2209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57800" y="685800"/>
            <a:ext cx="1204920" cy="1752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162920" y="304920"/>
            <a:ext cx="15192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352680" y="304920"/>
            <a:ext cx="1519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7:18:57Z</dcterms:created>
  <dc:creator>ecloutier11</dc:creator>
  <dc:description/>
  <dc:language>en-US</dc:language>
  <cp:lastModifiedBy>Readington Township Board of Education</cp:lastModifiedBy>
  <dcterms:modified xsi:type="dcterms:W3CDTF">2009-05-12T16:21:51Z</dcterms:modified>
  <cp:revision>7</cp:revision>
  <dc:subject/>
  <dc:title>Slide 1</dc:title>
</cp:coreProperties>
</file>